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CC43AD3-79AF-402D-BBDE-6454255DA3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1896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1896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0640" y="41896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1896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7480" y="41896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17760" y="41896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896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0640" y="41896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896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840200" y="490680"/>
            <a:ext cx="431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bdad"/>
                </a:solidFill>
                <a:latin typeface="Arial"/>
              </a:rPr>
              <a:t>CE Linux Forum / Embedded Linux Conference Europe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204240" y="18900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Technical Show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w="381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716360" y="1557360"/>
            <a:ext cx="1800" cy="5300640"/>
          </a:xfrm>
          <a:prstGeom prst="line">
            <a:avLst/>
          </a:prstGeom>
          <a:ln w="93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0240" y="1539720"/>
            <a:ext cx="191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What is demonst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960" y="1557360"/>
            <a:ext cx="174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What was 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702320" y="5770440"/>
            <a:ext cx="44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Source code or detail technical information avail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-3240" y="578808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Hardwar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549360"/>
            <a:ext cx="91440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0" y="0"/>
          <a:ext cx="758880" cy="75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75888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1160" y="690480"/>
            <a:ext cx="381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Demonstration 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3240" y="112536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enter Nam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84800" y="69048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Quick Boot Up Ma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1080" y="1125360"/>
            <a:ext cx="31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omas Brown / Brown Cor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72680" y="6004080"/>
            <a:ext cx="348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patch was sent to LKML in Sep. 20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78280" y="1987560"/>
            <a:ext cx="3522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eliminates the unnecessary process f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uring boot up time….. See the 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de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00" y="1971720"/>
            <a:ext cx="28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rprisingly quick cold boot up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160" y="6006960"/>
            <a:ext cx="270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wer PC 4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2MB NAND Flash Memory 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19800" y="2924280"/>
            <a:ext cx="23907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main (argc,argv)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/* Here is an example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process_a (_INTQUICK, 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process_foo 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kill_kernel (IMMEDIAT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99ff"/>
                </a:solidFill>
                <a:latin typeface="Courier New"/>
              </a:rPr>
              <a:t>/* It is bad way 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99ff"/>
                </a:solidFill>
                <a:latin typeface="Courier New"/>
              </a:rPr>
              <a:t>    </a:t>
            </a:r>
            <a:r>
              <a:rPr b="0" lang="en-GB" sz="1000" spc="-1" strike="noStrike">
                <a:solidFill>
                  <a:srgbClr val="0099ff"/>
                </a:solidFill>
                <a:latin typeface="Courier New"/>
              </a:rPr>
              <a:t>kill_kernel (AFT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99ff"/>
                </a:solidFill>
                <a:latin typeface="Courier New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0920" y="3068640"/>
            <a:ext cx="5329440" cy="165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 Black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toru Ueda</dc:creator>
  <dc:description/>
  <dc:language>en-US</dc:language>
  <cp:lastModifiedBy>Satoru Ueda</cp:lastModifiedBy>
  <cp:revision>0</cp:revision>
  <dc:subject/>
  <dc:title>スライド 1</dc:title>
</cp:coreProperties>
</file>